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2EB-0B65-4ED8-9E61-4378AF0C5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778-6F8B-4ABC-BD64-A967492FA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35C8-9171-4EE5-AA24-EF7211D7D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F607-46A1-4876-AF88-1C744617A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D099-F0B4-48FE-8EB8-33A6D2AF6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D2D0-517D-4630-8241-F57307DB0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6BDD-F111-47F6-84BE-89D7A6466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DE20-E0B2-49B2-BB8C-64D31167B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8B2F-7405-4C67-A701-83F2BDE7E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7D50-FA32-4728-A2AE-CBF3657A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1DC-6CC5-408C-9055-426291A18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15EC-E371-4E41-9A24-D389A18C0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7BF-126B-4C29-941A-630242F55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85B8-A45B-459B-860B-5CE546567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D720-EF07-4A96-8373-406FE79E1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7AF-22D4-4D76-87F1-F4644FCD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E9E-53BA-448A-AB14-4CF515E9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28B0-1B43-41BA-9DCA-041366D9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E132E-D9F4-41FF-BC8A-C1446D8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BBBEE-5F31-45E9-A276-5AC04E4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122BC-1914-45BC-A79B-54D1568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1CAAC-F07D-4797-ADBE-8A11E5F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54B4-FF3C-4D64-82D9-1C982D3B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FEDBB-1142-40FB-BA3E-6D22A35F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3B1B9-EDAD-4238-837A-7F8CE7BB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09EEC-47C0-4EF9-A2E4-2FF71A97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E4F-02F2-4242-AC25-E397999B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E6E-EA07-478D-805E-7F57FCBA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1531-9456-4C19-B6F1-FBFDAC18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5D4E-5344-47F9-B530-D5746398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8E70-F986-4C73-8C3C-E1DE2DC6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B872-20AA-43A1-A09D-D079F796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011C-F321-4D6D-A5CF-C2A4074F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6518-DCF4-42CB-A165-F74466AE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7707-23DF-4CED-B686-4B531CD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92A-89CB-4339-BAE2-9952A37C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90E9-7D5F-4212-9674-97B3F1E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9D10-8BB9-433A-92F9-9798F01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FBA3-A471-41E9-B342-678D7F54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F096-73E9-4732-AC1E-BC426223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9AE3-551A-4F8A-88F7-42D21A15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BB5E-64F8-4C17-B756-63D17037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F9F9-03FA-44AE-8513-5E72436C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23A7-1C83-4D40-A957-F381C15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C75A-BED6-48B0-8D09-72B82443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710F-FAEC-4C6A-987D-97CAE759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257-197B-468C-AED2-4C2A9E4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8F25-0B08-47D5-A256-9346680D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93DE-4A2C-438F-9A92-FF320799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C463-7BB4-4875-AA05-9B2282D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F99E-8365-4B46-AE19-CFDBBD5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E8F2-942B-4219-BE9B-75FA45C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A887-7493-48BA-A5C8-C1A08607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72FA-ABFD-4389-9E75-AC0589AB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72E2-AE21-4116-8FE3-ECDED8CF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F7D4-13CB-41F5-BB6F-D6E719F9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4451-0426-419F-8EFB-84012B6A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4B4-E053-48B8-82A9-FEA2A6D4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95C8-33C8-4075-B510-4D3CC776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79DE-9231-4F52-AADF-B9DC9368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8DE8-D9A5-4B3A-9A22-B5460423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A3CD-ABDC-4281-A217-1529724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3A52-286A-4241-991B-88D12AE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7731-0708-49BD-B1BF-DEF9239E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4E54-80C0-4ACC-B5FE-B3C2135F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5C2C-9EBC-474D-90A7-A1765956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9C6C4-54D0-4246-8897-A04D49E5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BBA4-4DF9-4340-9F1E-513AF6BD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068-B44C-4D56-958A-B4F5D43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5840-0E5F-4C83-9FED-D5B91E57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0FBD-1998-4DFB-A8CC-F93632E4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AC00-71A1-4F71-BFD6-164D2672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9118-7354-4264-8A23-2CBFA5FA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687A-42D0-4E99-AB93-60A498C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39B0-099A-41CF-A8A6-13BE8A7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BEBE-AB4D-4A51-9687-86896AAB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7FB81-68BD-4F57-B76E-D9E592A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0A67-FBD6-4767-AC47-11FC4BC3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33B09-BB70-449C-91B7-8D1457CC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625-B5BE-4FD8-BBEF-88B50FB4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1400-5D99-4C4C-9270-A547CC28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99ED6-A7E4-4DB5-9751-2C38932A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79B26-B766-487F-B6E2-AC2E5993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D8F3-7116-42DE-A5A3-176CFE76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98CF-0793-44A4-B277-FFBE78F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5C3C-0D2E-4312-9454-0BEC1104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D85A-897C-49BB-B830-F86E6947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FAC9-4B37-43F0-9F10-A49F18C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3742-47DD-4582-BCB7-4B7E6C8F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EF75C-B005-4002-B0A3-804318D1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29A-A01A-4C15-A6A8-BF7EA070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EB56-34A1-4F9D-955A-0F45CD58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0404-A73C-4F7C-9A6C-33F543A2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958B-E663-462B-8B81-83D9C7F3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352E-29AC-43D2-AE43-DE5DA6D7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E76F1-2DCB-4A53-A21C-ED951510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8B14B-0500-4FFA-A7A2-173DEA9B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B301C-4CEE-45A9-B893-BA74B2CE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D075-473E-40F9-BB7D-C3A03A6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6740F-E9DF-483D-BD09-E889748F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DDDDE-0140-4D55-9DB3-B0439F88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031-E073-4B13-85CE-87D0E6A0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0A6C-508E-4476-BB0A-DC5D17E9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B321A-94F0-42BB-9E70-7F50CE0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7D09-DB0E-4E74-9460-7FD6D66B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4B72D-B20F-49A1-99DB-88AB9DEB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22392-F5A8-442E-AF68-71015F5A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B0D87-CC3E-446E-86B7-59FAE730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3EC82-C80F-4A19-B5F2-A5E2724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DDF50-23C8-4FBF-A54A-5B6AED18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FE2D-32B7-4D3F-A69D-057B3DE3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695DB-203F-4526-99A2-5985349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A29-0B8C-438F-94C8-87926B4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0A82D-9001-455A-96BC-BF6E6AE4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8888-FE7D-4F56-A6F5-7846BC6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84FE6-35E3-452F-94AD-3AA9E2F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F1A6-E97E-42B0-A9DA-FD49614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AE25-2FEB-43E1-90C8-52088B6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2C47E-A345-496F-A991-08CCFC05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FDED-2258-463F-9B6E-4D8D07C4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581DE-DAF8-46BE-9304-5B0D2944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598CF-EC18-4924-A751-21702BD0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56687-3AC0-4355-B72E-158CBFD7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610-7EA2-49A0-A28C-606CE0A932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D860-81F9-40B2-B03A-059E10196F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7785-F213-4354-B11A-053BC6DA3A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8C13-CAC1-4B00-B36E-7A1874DE53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D41-AD60-4125-BBA7-5D978E99E3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13DE-B1B7-4E04-B0BC-A27679987E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9DA-89EE-4A97-A971-378E18A0FB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CD7A-63B4-4C85-9123-14231F2968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4123-1F6A-41DA-B96E-E5979E83D27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Placeholder 4" descr="th_anaastro-1.jpg"/>
          <p:cNvPicPr/>
          <p:nvPr/>
        </p:nvPicPr>
        <p:blipFill>
          <a:blip r:embed="rId1"/>
          <a:stretch/>
        </p:blipFill>
        <p:spPr>
          <a:xfrm>
            <a:off x="817560" y="822240"/>
            <a:ext cx="2286000" cy="4316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3803760" y="1085760"/>
            <a:ext cx="4279680" cy="22431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62160" y="2971440"/>
            <a:ext cx="4190760" cy="35542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ennessee State Universit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EDCI 5910 96/97/9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eminar 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all Semester, 200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signment #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epared by: Ana Selb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1487160"/>
          </a:xfrm>
          <a:prstGeom prst="rect">
            <a:avLst/>
          </a:prstGeom>
          <a:ln w="0">
            <a:noFill/>
          </a:ln>
        </p:spPr>
      </p:pic>
      <p:pic>
        <p:nvPicPr>
          <p:cNvPr id="427" name="Adam28.wmv" descr=""/>
          <p:cNvPicPr/>
          <p:nvPr/>
        </p:nvPicPr>
        <p:blipFill>
          <a:blip r:embed="rId2"/>
          <a:stretch/>
        </p:blipFill>
        <p:spPr>
          <a:xfrm>
            <a:off x="1905120" y="18860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06584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0280" y="-36360"/>
            <a:ext cx="8620200" cy="1487160"/>
          </a:xfrm>
          <a:prstGeom prst="rect">
            <a:avLst/>
          </a:prstGeom>
          <a:ln w="0">
            <a:noFill/>
          </a:ln>
        </p:spPr>
      </p:pic>
      <p:pic>
        <p:nvPicPr>
          <p:cNvPr id="429" name="Adam27.wmv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68480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835200" y="-36360"/>
            <a:ext cx="7480080" cy="1487160"/>
          </a:xfrm>
          <a:prstGeom prst="rect">
            <a:avLst/>
          </a:prstGeom>
          <a:ln w="0">
            <a:noFill/>
          </a:ln>
        </p:spPr>
      </p:pic>
      <p:pic>
        <p:nvPicPr>
          <p:cNvPr id="431" name="Adam29.wmv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16944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925120" cy="1212840"/>
          </a:xfrm>
          <a:prstGeom prst="rect">
            <a:avLst/>
          </a:prstGeom>
          <a:ln w="0">
            <a:noFill/>
          </a:ln>
        </p:spPr>
      </p:pic>
      <p:pic>
        <p:nvPicPr>
          <p:cNvPr id="433" name="Adam26.wmv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4160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225360" y="-36360"/>
            <a:ext cx="8699400" cy="1487160"/>
          </a:xfrm>
          <a:prstGeom prst="rect">
            <a:avLst/>
          </a:prstGeom>
          <a:ln w="0">
            <a:noFill/>
          </a:ln>
        </p:spPr>
      </p:pic>
      <p:pic>
        <p:nvPicPr>
          <p:cNvPr id="435" name="Adam30.wmv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23456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78000" y="4780080"/>
            <a:ext cx="8467560" cy="19746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nterview #2: Experienced Teach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3" descr="Adam30 _1__0001.jpg"/>
          <p:cNvPicPr/>
          <p:nvPr/>
        </p:nvPicPr>
        <p:blipFill>
          <a:blip r:embed="rId2"/>
          <a:stretch/>
        </p:blipFill>
        <p:spPr>
          <a:xfrm>
            <a:off x="3048120" y="14479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Adam32.wmv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1905120" y="20574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00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22400" y="55440"/>
            <a:ext cx="9028080" cy="1114560"/>
          </a:xfrm>
          <a:prstGeom prst="rect">
            <a:avLst/>
          </a:prstGeom>
          <a:ln w="0">
            <a:noFill/>
          </a:ln>
        </p:spPr>
      </p:pic>
      <p:pic>
        <p:nvPicPr>
          <p:cNvPr id="415" name="Adam33.wmv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905120" y="18288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9568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85840" y="-36360"/>
            <a:ext cx="8864640" cy="1487160"/>
          </a:xfrm>
          <a:prstGeom prst="rect">
            <a:avLst/>
          </a:prstGeom>
          <a:ln w="0">
            <a:noFill/>
          </a:ln>
        </p:spPr>
      </p:pic>
      <p:pic>
        <p:nvPicPr>
          <p:cNvPr id="417" name="Adam 21.wmv" descr=""/>
          <p:cNvPicPr/>
          <p:nvPr/>
        </p:nvPicPr>
        <p:blipFill>
          <a:blip r:embed="rId2"/>
          <a:stretch/>
        </p:blipFill>
        <p:spPr>
          <a:xfrm>
            <a:off x="2286000" y="20448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1456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298440" y="-36360"/>
            <a:ext cx="8699400" cy="1487160"/>
          </a:xfrm>
          <a:prstGeom prst="rect">
            <a:avLst/>
          </a:prstGeom>
          <a:ln w="0">
            <a:noFill/>
          </a:ln>
        </p:spPr>
      </p:pic>
      <p:pic>
        <p:nvPicPr>
          <p:cNvPr id="419" name="Adam 22.wmv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487656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5376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98440" y="-36360"/>
            <a:ext cx="8778960" cy="1487160"/>
          </a:xfrm>
          <a:prstGeom prst="rect">
            <a:avLst/>
          </a:prstGeom>
          <a:ln w="0">
            <a:noFill/>
          </a:ln>
        </p:spPr>
      </p:pic>
      <p:pic>
        <p:nvPicPr>
          <p:cNvPr id="421" name="Adam23.wmv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0064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9407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7480440" cy="1487520"/>
          </a:xfrm>
          <a:prstGeom prst="rect">
            <a:avLst/>
          </a:prstGeom>
          <a:ln w="0">
            <a:noFill/>
          </a:ln>
        </p:spPr>
      </p:pic>
      <p:pic>
        <p:nvPicPr>
          <p:cNvPr id="423" name="Adam24.wmv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49352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0048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225360" y="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25" name="Adam25.wmv" descr=""/>
          <p:cNvPicPr/>
          <p:nvPr/>
        </p:nvPicPr>
        <p:blipFill>
          <a:blip r:embed="rId2"/>
          <a:stretch/>
        </p:blipFill>
        <p:spPr>
          <a:xfrm>
            <a:off x="2108160" y="1828800"/>
            <a:ext cx="478332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76864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3:09:44Z</dcterms:created>
  <dc:creator>Owner</dc:creator>
  <dc:description/>
  <dc:language>en-US</dc:language>
  <cp:lastModifiedBy>Owner</cp:lastModifiedBy>
  <dcterms:modified xsi:type="dcterms:W3CDTF">2008-10-23T02:02:18Z</dcterms:modified>
  <cp:revision>18</cp:revision>
  <dc:subject/>
  <dc:title>Slide 1</dc:title>
</cp:coreProperties>
</file>